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336E-1FC0-4B87-B984-65DB390C8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4625-11F7-48F4-BA5E-552ACEA48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4FF6-C0DB-40DF-B668-76596B209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0562-4327-4922-ABCD-901C5F35B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06CE-3895-4062-BAEC-96732A3EA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ECC9-2703-4D16-93E0-16CB92536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B632-7A49-4224-894E-777D2BDF0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1A46-CA4E-48B8-9C05-D4DB653EC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EF8C-E0E8-4852-B8EB-C53A624F6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1E76-849F-4A03-9636-1CF09917F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3D3C-3965-4500-9F9B-6F46F070A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434E-6B25-481A-8A86-04ACE6DCC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76BC3-F647-4434-B2C9-E8D00FCDEB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95 Prehojné žehnanie z neb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ehojné žehnanie z neb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 lásky chce Otec nám dať;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jlepšie vie on, čo treb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erne chce pri nás vždy stá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áskavý Pane, žehnať ráč vždy ľud svoj s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ary čo z milosti mám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omáhaj zúročiť n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ehojné žehnanie dával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Hospodin komu dať chce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úcte kto pred ním sa skláňa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pásou mu v ústrety šie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áskavý Pane, žehnať ráč vždy ľud svoj s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ary čo z milosti mám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omáhaj zúročiť n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ehojné žehnanie dostal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oží ľud vykúpený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uríčny dážď keď mu poslal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ristus, Pán oslávený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áskavý Pane, žehnať ráč vždy ľud svoj s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ary čo z milosti mám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omáhaj zúročiť n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ehojné žehnanie Boži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prevádza dosiaľ aj nás;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okoľvek stihnúť nás môž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án ľud svoj ochráni vč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áskavý Pane, žehnať ráč vždy ľud svoj s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ary čo z milosti mám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omáhaj zúročiť nám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6-05T10:24:49Z</dcterms:modified>
  <cp:revision>19</cp:revision>
  <dc:subject/>
  <dc:title>Je veľký náš Pán, on slávy je Kráľ Nech do všetkých strán  spev vrúcnych znie chvál.</dc:title>
</cp:coreProperties>
</file>